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jeop.wav" ContentType="audio/x-wav"/>
  <Override PartName="/ppt/media/image2.jpeg" ContentType="image/jpeg"/>
  <Override PartName="/ppt/media/final.wav" ContentType="audio/x-wav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5A18-8CB0-43B2-9491-D39CB6538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EFB6-7695-487F-BC03-3D8C0F86F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C4A7-AEA2-49AF-948A-B5A8CF9AB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CAE9-D392-4D4C-9C6D-6DA383A57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CA2C2-73F8-4FC3-8716-07E456860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43ADC-1727-4B88-B116-D71CFCE14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20694-F1C9-4855-A975-C1B9266BC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7A951-8B0B-4A92-ADC5-B84F9D2E8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6D01B-BCD8-43AD-826C-CD6F699CC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C4EF5-7413-499B-9A81-AA20ACF7E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6C00E-3681-4826-9F0C-5FB0F027E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A855-0DA7-4862-988C-202319CFA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96D7B-99A9-4A8E-B5E4-5AD574310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338C6-9C3F-4283-8DDA-791BDD916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DDA61-A5FA-44F4-964E-D41A1AA36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0D603-9B7C-42DB-849B-D005D7099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DF42C-14AF-48A9-A085-0E6B996B9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0339-C7D8-4AB4-844E-000C28499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2D21-88A3-4C57-8820-D2125DA2D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7090-042C-49AE-8EBF-287724D2D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B34B-497C-485C-BCFF-C0E3520D3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ECFD-F6A9-44FB-8FB5-3318E58FE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D145-0246-467E-BD4A-3D520AD60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93B3-2991-4DCF-9D82-43B61E78E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0ACED-1178-488B-9A38-715AFAF4DD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2AC81-F7FB-4F1F-A27D-0F480AFC77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" Target="slide2.xml"/><Relationship Id="rId4" Type="http://schemas.openxmlformats.org/officeDocument/2006/relationships/slide" Target="slide4.xml"/><Relationship Id="rId5" Type="http://schemas.openxmlformats.org/officeDocument/2006/relationships/slide" Target="slide6.xml"/><Relationship Id="rId6" Type="http://schemas.openxmlformats.org/officeDocument/2006/relationships/slide" Target="slide8.xml"/><Relationship Id="rId7" Type="http://schemas.openxmlformats.org/officeDocument/2006/relationships/slide" Target="slide10.xml"/><Relationship Id="rId8" Type="http://schemas.openxmlformats.org/officeDocument/2006/relationships/slide" Target="slide12.xml"/><Relationship Id="rId9" Type="http://schemas.openxmlformats.org/officeDocument/2006/relationships/slide" Target="slide32.xml"/><Relationship Id="rId10" Type="http://schemas.openxmlformats.org/officeDocument/2006/relationships/slide" Target="slide22.xml"/><Relationship Id="rId11" Type="http://schemas.openxmlformats.org/officeDocument/2006/relationships/slide" Target="slide42.xml"/><Relationship Id="rId12" Type="http://schemas.openxmlformats.org/officeDocument/2006/relationships/slide" Target="slide14.xml"/><Relationship Id="rId13" Type="http://schemas.openxmlformats.org/officeDocument/2006/relationships/slide" Target="slide24.xml"/><Relationship Id="rId14" Type="http://schemas.openxmlformats.org/officeDocument/2006/relationships/slide" Target="slide34.xml"/><Relationship Id="rId15" Type="http://schemas.openxmlformats.org/officeDocument/2006/relationships/slide" Target="slide44.xml"/><Relationship Id="rId16" Type="http://schemas.openxmlformats.org/officeDocument/2006/relationships/slide" Target="slide16.xml"/><Relationship Id="rId17" Type="http://schemas.openxmlformats.org/officeDocument/2006/relationships/slide" Target="slide26.xml"/><Relationship Id="rId18" Type="http://schemas.openxmlformats.org/officeDocument/2006/relationships/slide" Target="slide36.xml"/><Relationship Id="rId19" Type="http://schemas.openxmlformats.org/officeDocument/2006/relationships/slide" Target="slide46.xml"/><Relationship Id="rId20" Type="http://schemas.openxmlformats.org/officeDocument/2006/relationships/slide" Target="slide18.xml"/><Relationship Id="rId21" Type="http://schemas.openxmlformats.org/officeDocument/2006/relationships/slide" Target="slide28.xml"/><Relationship Id="rId22" Type="http://schemas.openxmlformats.org/officeDocument/2006/relationships/slide" Target="slide38.xml"/><Relationship Id="rId23" Type="http://schemas.openxmlformats.org/officeDocument/2006/relationships/slide" Target="slide48.xml"/><Relationship Id="rId24" Type="http://schemas.openxmlformats.org/officeDocument/2006/relationships/slide" Target="slide20.xml"/><Relationship Id="rId25" Type="http://schemas.openxmlformats.org/officeDocument/2006/relationships/slide" Target="slide30.xml"/><Relationship Id="rId26" Type="http://schemas.openxmlformats.org/officeDocument/2006/relationships/slide" Target="slide40.xml"/><Relationship Id="rId27" Type="http://schemas.openxmlformats.org/officeDocument/2006/relationships/slide" Target="slide50.xml"/><Relationship Id="rId28" Type="http://schemas.openxmlformats.org/officeDocument/2006/relationships/audio" Target="../media/jeop.wav"/><Relationship Id="rId2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final.wav"/><Relationship Id="rId3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00"/>
                </a:solidFill>
                <a:latin typeface="Times New Roman"/>
              </a:rPr>
              <a:t>Jeopardy</a:t>
            </a:r>
            <a:endParaRPr b="0" lang="en-US" sz="80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684360" y="1523880"/>
          <a:ext cx="7775280" cy="4638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523880"/>
                    <a:ext cx="7775280" cy="463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838800" y="1752480"/>
            <a:ext cx="101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op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14600" y="17524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772080" y="1752480"/>
            <a:ext cx="1600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ocument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94960" y="175248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086960" y="1447920"/>
            <a:ext cx="127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sto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ste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402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3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00720" y="32418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4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00720" y="400356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5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00720" y="47656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6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00720" y="55278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7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51676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8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56488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9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0406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0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0124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1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51676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2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04064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3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56488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4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01244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5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1676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6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6468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7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54112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8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2440" y="40384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9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516760" y="47242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0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04064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1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6488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2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01244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3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51676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4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4064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5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56488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6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01244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7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770160" y="6324480"/>
            <a:ext cx="1986840" cy="45972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nal Jeopar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jeo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0"/>
                            </p:stCondLst>
                            <p:childTnLst>
                              <p:par>
                                <p:cTn id="1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6000"/>
                            </p:stCondLst>
                            <p:childTnLst>
                              <p:par>
                                <p:cTn id="1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8500"/>
                            </p:stCondLst>
                            <p:childTnLst>
                              <p:par>
                                <p:cTn id="2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1000"/>
                            </p:stCondLst>
                            <p:childTnLst>
                              <p:par>
                                <p:cTn id="2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6000"/>
                            </p:stCondLst>
                            <p:childTnLst>
                              <p:par>
                                <p:cTn id="3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8500"/>
                            </p:stCondLst>
                            <p:childTnLst>
                              <p:par>
                                <p:cTn id="4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Peopl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952560" y="2833560"/>
            <a:ext cx="7238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o was the former slave who helped invent the reaper with Cyrus McCormick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Peopl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1676520" y="3108240"/>
            <a:ext cx="579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Jo Anders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Plac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2087640" y="2651040"/>
            <a:ext cx="496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ich region of the United States has the oldest mountain rang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Plac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1973160" y="3108240"/>
            <a:ext cx="519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ppalachian Mountain reg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Plac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897200" y="2833560"/>
            <a:ext cx="534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was known as the Lost Colony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Plac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1325520" y="3108240"/>
            <a:ext cx="649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oanoke Islan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Plac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1820880" y="1735200"/>
            <a:ext cx="5502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o carried goods from Europe to West African empires, trading metals, cloth, and other manufactured goods for gold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Plac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1630440" y="3108240"/>
            <a:ext cx="588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tugues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Plac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1014480" y="2558880"/>
            <a:ext cx="7115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ich region of the original 13 colonies was known for v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llage and church as center of its social lif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Plac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1562040" y="3108240"/>
            <a:ext cx="601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ew Englan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Peopl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641600" y="2558880"/>
            <a:ext cx="5860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o was the commander-in-chief of the Continental Army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Plac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2011320" y="2558880"/>
            <a:ext cx="5121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ere was the battle that was the turning point of the American Revolution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Plac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706400" y="3108240"/>
            <a:ext cx="573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aratoga, New Yor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Documen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219320" y="2833560"/>
            <a:ext cx="670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o wrote the Declaration of Independenc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Documen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1889280" y="3168720"/>
            <a:ext cx="542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omas Jeffers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Documen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1671480" y="2558880"/>
            <a:ext cx="579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o wrote the Bill of Rights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Documen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1592280" y="3108240"/>
            <a:ext cx="595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James Madis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Documen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371600" y="2558880"/>
            <a:ext cx="64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o was the author of </a:t>
            </a: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Common Sens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Documen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1744560" y="3108240"/>
            <a:ext cx="565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omas Pain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Documen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1477800" y="2558880"/>
            <a:ext cx="6188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document recognized American Independence from England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Documen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1706400" y="2833560"/>
            <a:ext cx="573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Treaty of Pari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Peopl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676520" y="2833560"/>
            <a:ext cx="579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eorge Washingt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Documen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1366920" y="2558880"/>
            <a:ext cx="640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document 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sures all citizens the right to vote regardless of race or color or previous condition of servitud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Documen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1181160" y="3048120"/>
            <a:ext cx="678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15</a:t>
            </a:r>
            <a:r>
              <a:rPr b="0" lang="en-US" sz="36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amendment to the United States Constitu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Term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1096920" y="2833560"/>
            <a:ext cx="695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a harbor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Term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990720" y="2833560"/>
            <a:ext cx="716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 natural, protected place that is deep enough that ships can ancho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Term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1935000" y="2558880"/>
            <a:ext cx="527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harvested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Term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914400" y="255888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o gather in a crop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Term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1859040" y="3108240"/>
            <a:ext cx="542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cultur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Term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914400" y="2833560"/>
            <a:ext cx="7315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beliefs, social actions and traits of people of the same religion, race or countr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Term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1219320" y="228456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economic ventur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Term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1523880" y="2833560"/>
            <a:ext cx="609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omething that is done to make money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Peopl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325520" y="2833560"/>
            <a:ext cx="649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o established the French settlement of Quebec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Term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914400" y="310824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unalienabl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Term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990720" y="3108240"/>
            <a:ext cx="739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omething that can’t be given up or give awa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History Myster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1889280" y="3168720"/>
            <a:ext cx="6416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began the American Revolution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History Myster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2063880" y="3108240"/>
            <a:ext cx="501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firing on Fort Sumte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History Myster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1935000" y="2833560"/>
            <a:ext cx="527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o was general of the Union army that defeated Lee 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History Myster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1889280" y="3168720"/>
            <a:ext cx="519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Ulysses S. Gra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History Myster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1889280" y="3168720"/>
            <a:ext cx="5654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gave the Freed slaves equal rights and helped ensure it by allowing federal troops to enforce the rights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History Myster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1066680" y="2833560"/>
            <a:ext cx="71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Civil Rights Act of 1866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History Myster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1905120" y="3200400"/>
            <a:ext cx="6095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four slave states stayed in the Union during the Civil War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History Myster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914400" y="283356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elaware, Kentucky, Maryland and Missouri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Peopl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1790640" y="3108240"/>
            <a:ext cx="556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amuel de Champlai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History Myster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1889280" y="3168720"/>
            <a:ext cx="557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o became president in 1860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History Myster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1889280" y="3168720"/>
            <a:ext cx="634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braham Lincol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Times New Roman"/>
              </a:rPr>
              <a:t>Final Jeopardy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914400" y="2043000"/>
            <a:ext cx="73152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was the idea that expansion was for the good of the country and was the right of the country called?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fina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Times New Roman"/>
              </a:rPr>
              <a:t>Final Jeopardy Answer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523880" y="2819520"/>
            <a:ext cx="6873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anifest Destin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Peopl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1859040" y="2558880"/>
            <a:ext cx="542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o invented the cotton gin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Peopl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2624040" y="3108240"/>
            <a:ext cx="389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li Whitne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Peopl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295280" y="283356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o was a former slave who wrote poems and plays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Peopl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1554120" y="3108240"/>
            <a:ext cx="603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hyllis Wheatle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7T14:16:32Z</dcterms:created>
  <dc:creator>SCPS</dc:creator>
  <dc:description/>
  <dc:language>en-US</dc:language>
  <cp:lastModifiedBy>renita.williams</cp:lastModifiedBy>
  <dcterms:modified xsi:type="dcterms:W3CDTF">2007-01-02T02:15:40Z</dcterms:modified>
  <cp:revision>33</cp:revision>
  <dc:subject/>
  <dc:title>Jeopardy</dc:title>
</cp:coreProperties>
</file>